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FC2-6860-4B20-9A66-467CE069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D95-335B-4978-AC06-5424F292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17A-FCC2-4F8D-A3C9-EF7EA069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0C4-6FE3-478C-9F69-2DA5A42B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1252-1185-42ED-BE82-EBB754B9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4A82-2F9C-412A-8E0A-3EB57B23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5360-6A53-48F2-B7DD-447D7637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EFEC-DDCD-4D1B-B6C7-256E1FA9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CC98-A4E2-4D75-9686-185E7A74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F14E-862B-4FC1-8DAE-3D0F8341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DE44-EAAC-469A-83D2-719E921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014-1D61-4FB2-BEB2-539094BB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0B5B-0A0D-49D8-88DE-B7AB0F49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B34A-399B-4C1E-9BA7-ED5D0425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1812-31A4-4B8C-8B2C-835B1A77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3C49-2A39-4EF7-BAFF-5482FEAC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7E37-B931-4165-8A2E-862C7997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05F-D4E6-45BD-833C-D2D228DE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7D1-5C90-4092-9CD1-C5159648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A6F-AA7D-4908-AA50-144F8F50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538-D4A4-4829-935E-598A7CCF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394-61A6-4DD6-AA20-2F6A3510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95B-A043-4E02-B5B7-EB01ECCD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EDE-536F-48B0-8E46-04CD54C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E3C6-5593-4A5E-96FB-99AEE7A57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5A1B-D23E-4537-BC1C-548E3BA0D538}" type="slidenum"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Historical Linguistic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The 19</a:t>
            </a:r>
            <a:r>
              <a:rPr b="0" lang="en-US" sz="3200" spc="-1" strike="noStrike" baseline="30000">
                <a:solidFill>
                  <a:srgbClr val="969696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 Centu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est-known historical linguists of the early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 are the Dane, Rasmus Rask and the Germans, Franz Bopp and Jacob Grim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pp (1816) compared the verbal conjugations of Sanskrit, Persian, Latin, Greek and Ger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the addition of Celtic and Albanian, Bopp called these the ‘Indo-European family of language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sk (1818) published the comparative grammar of Scandinavian Languages, also noted their relationship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cob Grimm (1785-1863) restricted his studies to the Germanic family especially Gothic due to its historic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The 20</a:t>
            </a:r>
            <a:r>
              <a:rPr b="0" lang="en-US" sz="3200" spc="-1" strike="noStrike" baseline="30000">
                <a:solidFill>
                  <a:srgbClr val="969696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 Centu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rman domination got over in the first decade of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 with the works of Ferdinand de Saussure (1857-19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wed language as a system of arbitrary signs in opposition to one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de distinction between language and spee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240" y="2017440"/>
            <a:ext cx="75805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d ‘Descriptive Linguistics’ and ‘Historical Linguistics’ into two defined spheres of inter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owned as a founder of Structural Lingu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his time onward, the Descriptive Linguistics rapidly developed while historical linguistics and comparative studies lost their impor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PRINCIPLE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tain principles in the field of Historical Linguistics are taken as axiomatic which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languages are in a continual process of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languages are subject to the same kind of modifying influe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change is regular and systematic, allowing for the unhindered communication among spea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istic and social factors are interrelated in language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systems tend toward as yet unspecified states of economy and redunda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DIACHRONIC &amp; SYNCHRONIC STUDY OF LANGUAG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chronic study of language attempts to compare one or more languages at different stages in their histo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c study is also known as ‘descriptive study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analysis of a language or a part so that to compare the changes occurred at two different periods of t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LANGUAGE CHANG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656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s constantly need to communicate with each other in different circumsta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is purpose they have to adapt language to changing communicative needs in a changing enviro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changes occur in the sound, grammar. And modifications also occur in vocabulary and in the meaning of the w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Through the basic process of word formation of word formation all people are capable of producing wo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Such words result from the combination of morpheme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speaker is seldom aware that he or she has used language creatively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Language  is, by its nature, product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there are also the cases when truly new words appear, words that no speaker of the language has ever produced befo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Words may be added or lost in conjunction with cultural chang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ld’s languages analysed in terms of their historical persp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es on ‘language universals’ – universals present in all languages about sentence structure, sound pattern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LANGUAGE CHANG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ahoma"/>
              </a:rPr>
              <a:t>Phonological Chang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fects on sounds of a language over the course of time by regular and systematic modifications, for example (Barbar, 1965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ld Engli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Present-Day Eng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nn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xid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di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v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ahoma"/>
              </a:rPr>
              <a:t>Morphological &amp; Syntactical Chang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ld Eng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ul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nd-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 Eng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nd-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-day Eng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nd    /haund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hounds    /haundz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ctical Change in terms of formation of Yes/No Questions (an inversion ru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English Constr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spea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 the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English Constr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spe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XXX (Do they spe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pe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Can they spe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403848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495680" y="5715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388620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  <a:ea typeface="新細明體"/>
              </a:rPr>
              <a:t>Lexical Chan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Some of the word-formation processes by which lexical changes occur in English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Process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Compound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sailboat, bigmou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Deriva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ug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orrowing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yacht (Dut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2057400" y="4191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Processes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Examples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Acrony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         UNESCO, RAD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lend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smoke+fog &gt; smog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motor+hotel &gt; mo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Abbrevi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   op. ibid. Ms. Mr. M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Double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person, pa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ack-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urgle&lt; burg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typewrite&lt;typewri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Processes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dba9c2"/>
                </a:solidFill>
                <a:latin typeface="Tahoma"/>
                <a:ea typeface="新細明體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Echoic form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     miaow, moo, spl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Clipp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     prof. for prof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phone for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Proper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       boycott&lt; Char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oycott (1832-9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emantic Chan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meanings in all natural languag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ve around three general princi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 Broadening: (from the particular to the general) e.g. holy day &gt; holi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 Narrowing: (from the general to the particular) e.g. Old English ‘mete’ [food] &gt; Present-day English ‘meat’ [a specific food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s in Meaning: e.g. lust &gt; pleasure, immoral &gt; ‘not customary’, silly &gt; ‘happy, blessed’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ocial &amp; Psychological Aspects of Language Chan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rence of language change through the social phenomenon i.e. taboos, metaphor and folk etym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ance of particular words for social reasons occurs in al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phemism replaces such particular 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instanc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s &gt; passes away (less severe and more sympath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s to toilet &gt; goes to the bathroom (seems more formal and sophisticat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ights the relationship between ‘language universals’ and the ‘cognitive parameters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ds light on linguistic change and the underlying forces and processes which shape and mould th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s extinct languages of the p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ies development of natural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GENETIC CLASSIFICATION OF LANGUAG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cal and comparative linguistic investigation resulted in the mapping of World’s Languages into families and the sub-groupings within these families, thus each language has its relationship with an earlier proto-language, thus it is known as Genetic Classif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-INDO-EUROPE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stern Branch (West Europe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rm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a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le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toli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char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tern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av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o-Iran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ban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men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rbar, Charles. 1965. The Story of Language. The English Language Book Society and Pan Books Ltd: Lond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mkjar, Kirsten. 1991. The Linguistics Encyclopedia. Routledge: London and New Y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HISTORICAL BACKGROUND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ahoma"/>
              </a:rPr>
              <a:t>Antiquity and the Middle 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ies in Historical Linguistics founded by ancient Gree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st degree of sophistication among the scholars of Alexandria during Hellenistic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to’s work ‘Cratylus’ focused on the discussion of, ‘whether or not the things are named due to their natural attributes or were founded by convention’ – Etym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ion on nature of language in terms of pattern (analogy) and parts of spee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studies then passed on to Romans from Greeks who then applied same theories on Lat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ies were carried out about Latin and Greek Grammar throughout Middle 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The Renaissan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gnificant change in the language studies in this 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e routes opened up to the exploration of east –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gnition of world’s d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 studies turned to ‘universal linguistic concepts and to the idea of ‘Universal Gramma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son and classification of world’s languages in terms of their resemblances in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The 18</a:t>
            </a:r>
            <a:r>
              <a:rPr b="0" lang="en-US" sz="3200" spc="-1" strike="noStrike" baseline="30000">
                <a:solidFill>
                  <a:srgbClr val="969696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 Centu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consistency in comparative and historical lingu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. Ludolf in 1702 stated that the strong link between languages must be based on grammatical resemblances rather than vocabul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 of more languages to the repertoire after gathering their speci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 of language’ under attention and discussion by various lingu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very was made that Sanskrit language of ancient India was related to the languages of Europe and to Latin and Gre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7:09:09Z</dcterms:created>
  <dc:creator>Microsoft</dc:creator>
  <dc:description/>
  <dc:language>en-US</dc:language>
  <cp:lastModifiedBy>Professor Dr. Mamuna</cp:lastModifiedBy>
  <dcterms:modified xsi:type="dcterms:W3CDTF">2013-10-29T09:30:47Z</dcterms:modified>
  <cp:revision>58</cp:revision>
  <dc:subject/>
  <dc:title>Historical lingu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